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117-291C-4724-8848-9C42159E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CBC-D390-484A-9282-29E0BEA9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247-4EF3-4736-B0F0-5EB93A9A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98F-1686-4750-9DB5-7602E060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2BC-F3A7-4826-87E6-C117808F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6F1-456A-46FF-8537-0AD27C5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89A-97C7-4AFA-8FE1-94E6E218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A6B-F8CF-46AB-B818-A453431B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D48-362D-46BB-BBC8-6D8B122A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E1B-EF1A-4037-9C8D-6B068974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300-C76C-468F-8960-B6AE8EA4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5FF-CBAA-45FE-AD7B-DF29CB93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5794-91C3-4903-8DA4-9DC710DED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тренажеров в технической и физической подготовке начинающих волейболис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ыявить и обосновать, что использование тренажерных устройств, в процессе подготовки волейболистов повышает их спортив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анализировать существующую научно-методическую литературу по данной проблеме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пределить роль тренажерных устройств, как одного из важных средств в процессе подготовки волейбо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асскрыть значение использования тренажеров в физической и технической подготовке волейбо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оследить за динамикой физической подготовки волейболи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цесс подготовки волейб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ажеры и тренажерные устройства, как одно из средств повышения физической подготов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положим что, используя тренажерные устройства в процессе подготовки волейболистов, повысится уровень физической подготовленности атакующего уд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Анализа литератур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едагогическое тес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етод математических статис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Великодворской средней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-1234440" y="3245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,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7772040" y="3668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1500120" y="660960"/>
            <a:ext cx="682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технической подготовки заним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ренажерами и тренажерными устройств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58920" y="1484280"/>
          <a:ext cx="7273800" cy="389592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дков А.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бодин 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ливан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2+2+1+2):5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3+3+2+2):5=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91"/>
          <p:cNvSpPr/>
          <p:nvPr/>
        </p:nvSpPr>
        <p:spPr>
          <a:xfrm>
            <a:off x="2268360" y="5514840"/>
            <a:ext cx="47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. арифм .= һ : 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ŗ –количество заним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ħ – сумма количеств попад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59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ь технической подготовки занимающихся без тренажеров и тренажерных устр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421000"/>
          <a:ext cx="6077160" cy="411480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7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йце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ст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крас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зин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2+1+0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3+1+1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58920" y="1916280"/>
          <a:ext cx="6264360" cy="43923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</a:tblGrid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9:48:46Z</dcterms:created>
  <dc:creator>Приятель</dc:creator>
  <dc:description/>
  <dc:language>en-US</dc:language>
  <cp:lastModifiedBy>Максим</cp:lastModifiedBy>
  <dcterms:modified xsi:type="dcterms:W3CDTF">2010-10-30T18:17:04Z</dcterms:modified>
  <cp:revision>3</cp:revision>
  <dc:subject/>
  <dc:title>Использование тренажеров в технической и физической подготовке начинающих волейболистов.</dc:title>
</cp:coreProperties>
</file>